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4b01"/>
                </a:solidFill>
                <a:latin typeface="Eras Bold ITC"/>
              </a:rPr>
              <a:t>Click to move the slide</a:t>
            </a: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2612-EDAD-4EF6-AD1B-A3554BB37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47F7-BFED-46F4-B55D-E75B1EA92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5219-0FE6-4CEE-B6D4-E31970A6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EB4D-1148-4BFE-8292-11C616F73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852B-FCAF-4572-BB4C-6947B5775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6551-AA94-46E0-8EDF-EB02A20A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A865-FDD7-4D09-8094-032BD745C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B29F-1113-4138-81BA-6049FB63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D37C-2B1E-46F7-AF8E-5EBDDE4AA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1904-1AAA-405A-8946-C6CDB8F9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97224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A72-673F-479C-B2EC-8E397058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74472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0C98-00A6-464B-BE3D-7004CE76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2288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9312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2288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9312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DA83-FB9B-4433-9C89-0BF2BEB0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BDB9-395D-4E82-B1DA-049D3BC3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5A8F-8734-49FB-B1BC-25C607BC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FA9C-9863-4EC3-86E0-44034AA5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09A8-82ED-4950-983E-E948B3FE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EF63F-D646-4AE1-8801-26184107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55F2-3C3E-425B-907B-078D9EB9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1C72-8010-471C-A4FF-AC569824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5440-5E91-435D-80FB-A7DFD050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4472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F841-2A70-48E3-A815-903903F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C6A0-31C2-42FA-A31E-5ACB37A4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280" y="397224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D187-0F5D-4244-B7F0-83FECBCE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74472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215D-1FD8-43B8-B61F-B0B64217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2288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3120" y="106668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28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2288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93120" y="3972240"/>
            <a:ext cx="22572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45C5-A55C-4F8F-9458-5A4C52F81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F29-C8EA-4DEE-8020-97099722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CF54-692A-49F0-A015-328B82B0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F6A-DD49-40D0-946B-086AEBA4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-36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972-6947-4F40-A0A1-9CD8173A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DF89-1F89-40D2-ACEE-042D3168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744720" y="397224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6B08-B4C1-401C-98F5-1E2AEBC9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-9000"/>
            <a:ext cx="9067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744720" y="1066680"/>
            <a:ext cx="34210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972240"/>
            <a:ext cx="70106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A17-3214-43E0-B521-FB007E7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4b01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E8D8-75E7-4059-B5F0-B1B0564E33E7}" type="slidenum"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ippie_peace_gesture_hg_clr"/>
          <p:cNvPicPr/>
          <p:nvPr/>
        </p:nvPicPr>
        <p:blipFill>
          <a:blip r:embed="rId3"/>
          <a:stretch/>
        </p:blipFill>
        <p:spPr>
          <a:xfrm>
            <a:off x="6156360" y="2743200"/>
            <a:ext cx="3063960" cy="417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14b01"/>
                </a:solidFill>
                <a:latin typeface="Eras Bold ITC"/>
              </a:rPr>
              <a:t>Click to edit the title text format</a:t>
            </a:r>
            <a:endParaRPr b="0" lang="en-US" sz="40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7010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E31F-6FF7-4FE1-BA6D-3D257D4A33B0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409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Hey Dude!</a:t>
            </a:r>
            <a:endParaRPr b="0" lang="en-US" sz="5400" spc="-1" strike="noStrike">
              <a:solidFill>
                <a:srgbClr val="314b01"/>
              </a:solidFill>
              <a:latin typeface="Eras Bold IT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624816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Comic Sans MS"/>
              </a:rPr>
              <a:t>Answer this question in 5 minutes!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93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182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95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18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97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118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99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1182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101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118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103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1182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Comic Sans MS"/>
              </a:rPr>
              <a:t>Question</a:t>
            </a:r>
            <a:endParaRPr b="0" lang="en-US" sz="4400" spc="-1" strike="noStrike">
              <a:solidFill>
                <a:srgbClr val="314b01"/>
              </a:solidFill>
              <a:latin typeface="Eras Bold ITC"/>
            </a:endParaRPr>
          </a:p>
        </p:txBody>
      </p:sp>
      <p:pic>
        <p:nvPicPr>
          <p:cNvPr id="105" name="seinfeld.mid" descr=""/>
          <p:cNvPicPr/>
          <p:nvPr/>
        </p:nvPicPr>
        <p:blipFill>
          <a:blip r:embed="rId1"/>
          <a:stretch/>
        </p:blipFill>
        <p:spPr>
          <a:xfrm>
            <a:off x="380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118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7:00:47Z</dcterms:created>
  <dc:creator>Cheryl Massengale</dc:creator>
  <dc:description/>
  <dc:language>en-US</dc:language>
  <cp:lastModifiedBy>Microsoft Office User</cp:lastModifiedBy>
  <dcterms:modified xsi:type="dcterms:W3CDTF">2011-09-17T09:36:06Z</dcterms:modified>
  <cp:revision>5</cp:revision>
  <dc:subject/>
  <dc:title>Hey Dude!</dc:title>
</cp:coreProperties>
</file>